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C8CD-7460-4E1F-B683-2192D3829F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ether the following diagrams illustrate acceleration or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paper from 1 to 5 and answer A if you think it is showing acceleration or E if you think it is showing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ether the following diagrams illustrate acceleration or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paper from 1 to 5 and answer A if you think it is showing acceleration or E if you think it is showing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: acceleration     B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: acceleration     B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A759-7845-4277-8266-2D031821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0565-3B62-46A1-9743-B39AFC4B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23A-C6B4-4FC6-863E-18D6F514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255A-5046-4853-AE41-0ED205B3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686-6CED-4966-BAEA-B14BEDB5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C24B-10E5-45BA-AE94-7CAA3B73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3231-076B-49AD-9666-EBF362DF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44D3-1451-43CA-84AB-80491407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A153-FFB5-4724-9921-5C2DA999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BBB-7C98-4D58-A3A3-8DBAAE8E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2D08-76F2-4635-B87C-948A6986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8660-857A-435D-A6F9-5D681055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7236-2117-422B-B8BA-40C17EDA5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ether the following diagrams illustrate acceleration or equilib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your paper from 1 to 5 and answer A if you think it is showing acceleration or E if you think it is showing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86200" y="3276720"/>
            <a:ext cx="17524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4800600" y="40384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 flipH="1">
            <a:off x="2666520" y="40384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2096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09588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809880" y="3505320"/>
            <a:ext cx="2133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952880" y="40384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248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429000" y="2971800"/>
            <a:ext cx="2209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4495680" y="358128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4495680" y="40384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990360" y="373392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752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9436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60958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581280" y="24382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4191120" y="30481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4191120" y="29718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7432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5627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00400" y="3276720"/>
            <a:ext cx="175248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4038480" y="3962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4114800" y="2209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4191120" y="38098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 flipH="1">
            <a:off x="2362320" y="38098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7339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35812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29528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095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267080" y="5867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=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886200" y="2514600"/>
            <a:ext cx="17524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472428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 flipH="1">
            <a:off x="266652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909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7913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762120" y="304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86200" y="3276720"/>
            <a:ext cx="17524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800600" y="40384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H="1">
            <a:off x="2666520" y="40384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2096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09588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9880" y="3505320"/>
            <a:ext cx="2133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4952880" y="40384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248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429000" y="2971800"/>
            <a:ext cx="2209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4495680" y="358128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4495680" y="40384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990360" y="373392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752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9436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0958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581280" y="24382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4191120" y="30481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4191120" y="29718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432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5627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B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00400" y="3276720"/>
            <a:ext cx="175248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038480" y="3962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V="1">
            <a:off x="4114800" y="2209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191120" y="38098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2362320" y="38098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7339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5812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29528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6095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886200" y="2514600"/>
            <a:ext cx="17524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72428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266652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909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7913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762120" y="304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124080" y="4724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=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9:20:03Z</dcterms:created>
  <dc:creator>vanattab</dc:creator>
  <dc:description/>
  <dc:language>en-US</dc:language>
  <cp:lastModifiedBy>RomaK</cp:lastModifiedBy>
  <dcterms:modified xsi:type="dcterms:W3CDTF">2015-09-03T12:16:46Z</dcterms:modified>
  <cp:revision>3</cp:revision>
  <dc:subject/>
  <dc:title>A: acceleration     B:equilibrium</dc:title>
</cp:coreProperties>
</file>